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384-4336-4100-943C-174082FB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93-4991-4CDF-815C-CB4526D3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B1B-9F57-42DB-AB9B-5DF01A26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19E-ED07-4FA4-8119-BCF285E1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3CF-DA58-4311-811F-0629069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77A-3F14-477A-AF46-7929DBF5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321-5097-42F0-A865-3A0CA9D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6CE-A1DB-4D80-9B51-B71BEE0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C64-305C-474C-93B6-D6AB5C70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373-107F-4C22-BA53-264E5FF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A08-080B-49C3-A52B-900DBDC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4AD-16E7-49F4-A021-96ACB7E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D6C-4DF3-4AFB-8FF3-07BA1725C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2193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he conditions under which instructional animation may be effective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aul Ayres, Slava Kalyuga, Nadine Marcus &amp; John Swel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niversity of New South Wales, Sydney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Paper presented at an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International Workshop and Mini-conference, Open University of the Netherl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29August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Lowering Extraneous cognitive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quiring sufficient prior knowledg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ome knowledge WM constraints caused by the transitory nature becomes less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er, Mathias, and Wetzell (2002) found that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-training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was beneficial in a multimedia (animated)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arke, Ayres &amp; Sweller (2005) found pre-training on spread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effective for no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act the transitory nature of animations and decrease extraneous load by keeping information available on the screen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vidence with Japanese writing (Marcus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tion types may automatically do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Lowering Extraneous CL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rner contr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op the animation. WM overload can be avoided if the learner is in control of the pace (see Mayer and Chandler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gmen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animations can be transformed in some way then they may become less demanding on W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er and Chandler (2001) found that segmenting an animation into parts proved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quencing statics and an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tatics before animations for no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possible expertise-reversal effect for more  knowledgeable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Germane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teractivity which may stimulate learners to invest more mental effort in learning (see Bodemer et al., 2004; Lowe, 2004; Schnotz &amp; Rasch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di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garty et al. (2003) found that combining predictions with animations was more effective than animations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 not work for novices as it could increase extraneous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duce results similar to the use of imagination (Coo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indall-Ford, Chandler, &amp; Swelle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structional animations have been introduced with little or no reference to human cognitive functio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s a consequence the use of computer-based animations frequently have not led to better learning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be effective new instructional technologies must be closely aligned with a knowledge of learning princip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T may provide a comprehensive theory to explain why animations have frequently failed as an instruction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T may be able to identify a number of conditions under which animations can become ef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diagrams v an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imations (dynamic representations) have not been found to be more effective than the equivalent static graphics (Hegarty, Kriz &amp; Cate, 2003; Tversky, Morrison, &amp; Betrancourt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er, Hegarty &amp; Mayer (2005) found that statics we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oroghlanian and Klein (2004) found that more time was spent studying the information, with no learning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we (1999, 2003) argued that learners’ attention was diverted away from key less-obvious features,  suggesting a split attention type of effect.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for a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nditions, such as interactivity, improve their relative effectiveness (Bodemer, Ploetzner, Feuerlein, &amp; Spada, 2004; Lowe, 2004; Schnotz &amp; Rasch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equently, the overall results on animations are somewhat incon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eed for a comprehensive theory to explain the cognitive processes involved in learning from anim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notable exceptions of Mayer’s generative theory of multimedia learning (2001) and CLT there has been little guidance on how to design and use animation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red Paa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In this presentation, I analyse animation from a CLT perspective and argue that CLT may “have some answ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gnitive Load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ng-term memory (LTM) is viewed as the central, dominant structure of human cogn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TM incorporates a massive 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contrast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Working memory (WM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very limited both in duration and capacity (especially when processing novel inform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ever, when dealing with previously learned information these limitations disappear. Large amounts of information can be brought back from LTM to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altered characteristics of WM when processing familiar information, has led to the idea of a long-term working memory (Ericsson and Kintsch,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ypes of Cognitive load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allenged at EARLI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: Element inter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neous: Instructiona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ane: Investment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T assumes that learning is inhibited if total CL is over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4191120"/>
          <a:ext cx="7543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7543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haracteristics of anim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imation has two critical characteristics that may explain its lack of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1. Information is transitor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less rehearsed, material will remain in WM for no more than a few sec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icult to both process current information and remember previou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contrast, static graphical displays can be revisited a number of times, reducing the problems associated with a limited  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this sense, animation produces an extraneous cognitiv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troactive inhib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2. Animations consists of a series of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Element A must be learned first followed by Element B, learning B may interfere with what has already been learned of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Element A is to be remembered, it will need to be transferred to LTM because it will only remain in WM for a few sec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I will occur if Element B must be processed before Element A has had time to be transferred to L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static graphics more time can be made available to transfer the information associated with Element A to LTM prior to processing the information of Elem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yres &amp; Mayer (in prep.) have found some evidence of RI with anim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 under which animation is likely to be eff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358128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general multimedia princi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design of animations can in many cases be automatically improved by applying principles consistent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tive theory of multimedia learning and C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attention etc can be avo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5:59:41Z</dcterms:created>
  <dc:creator>FoAaSS FoAaSS</dc:creator>
  <dc:description/>
  <dc:language>en-US</dc:language>
  <cp:lastModifiedBy>Kicken, Wendy</cp:lastModifiedBy>
  <dcterms:modified xsi:type="dcterms:W3CDTF">2005-09-05T07:05:02Z</dcterms:modified>
  <cp:revision>41</cp:revision>
  <dc:subject/>
  <dc:title>PowerPoint Presentation</dc:title>
</cp:coreProperties>
</file>